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C5B8-7C20-4A8F-B008-A9726DD3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95785-1777-4AEE-A356-0575BAA191BA}" type="slidenum"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meet everyone’s expectation.  Everyone situation is unique.  Please let me know how I can help you specif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CDC8D-FCA8-4BEE-9F21-8B7BE9DDFBA2}" type="slidenum"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0266-D02F-4F1C-8580-B8550E6A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C7BE-D8AA-4195-8B4D-541D3E2A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9E60-09E3-4B86-ABAD-62C90E77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C47B-2D67-41D2-BA67-E968B7BD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293A-909A-4692-A507-01FD2ED8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9B4-38D7-4DD2-92B7-CCA1C296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6F8A-F3F2-4CDA-AD08-A1C0AB14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A808-D201-4EA3-9CD3-9A2E9B90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CB27-5CC8-40D1-B234-17B91A94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5ADC-5770-45CF-8F42-6F6A5742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2585-9466-4072-8035-C31773FD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0D24-70E2-49E0-8C20-2E900164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F068-F6CC-42C6-AC0C-875AAD89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287D-452D-4151-8F10-4A75209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6EB1-8292-4687-A13D-A0BB2B9B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AE92-619C-407F-984A-5DD83691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7903-6A86-45BC-8157-B364856F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3EC3-E7EB-4406-AA3D-173467FE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BAF5-076C-4921-9336-DCDA95D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C4D6-CF05-476B-AC50-9381CA39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83FE-19E4-491F-8447-734EF4B2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2318-01FD-4C7E-99F7-5F4C8611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38DC-1A6D-4D4F-B6DD-DBBF59BC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409A-CEF3-4243-A16D-33F6C5F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FE81-4363-4859-B096-A733748FA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9C62-89B9-4A98-BF6F-476F0FF802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llegeboard.com/" TargetMode="External"/><Relationship Id="rId2" Type="http://schemas.openxmlformats.org/officeDocument/2006/relationships/hyperlink" Target="http://www.collegeconfidential.com/" TargetMode="External"/><Relationship Id="rId3" Type="http://schemas.openxmlformats.org/officeDocument/2006/relationships/hyperlink" Target="http://www.fastweb.com/" TargetMode="External"/><Relationship Id="rId4" Type="http://schemas.openxmlformats.org/officeDocument/2006/relationships/hyperlink" Target="http://www.smartaboutcollege.com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and Career Plan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lege Search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missions 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larshi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ial A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dvic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eshmen and Sophom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GPA is cumula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t to know the adults at school and in your lif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classes that are interesting and challeng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 involved and stay involv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end some time thinking about what you plan to do after high school, then make a plan to get the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ni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some, not all, AP or Honors cour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your ACT or SAT exams this spring, especially if you’re in a fall s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a tour of colleges and universities this spring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 it NOW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dvic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i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self-select your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early (pay attention to deadlin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often (scholarship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ther accurate information from good sources  (financial a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cate clearly and effect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ent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orecast:  fair to partly cloudy…hoping for sunsh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Academy Award for Best Supporting Actor/Actress goes t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how things have chan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-78840"/>
            <a:ext cx="839340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you grew u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70'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your sophomore class picture, you're wearing a shirt with the collar "up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g warmers were c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ever asked to be gagged with a spo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ever had a Dorothy Hamill haircut or used Short and Sassy shamp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when Jordache jeans were c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"Friday Night Videos" before the days of MT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having to get off the couch to change the TV chan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took family trips BEFORE the invention of the mini-va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member riding in the back of the station wagon trying to get passing trucks to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nk a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first musical purchase was an 8-track t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parents paid $2,000 for a top-loading VCR that was almost the size of a coffee 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've ever owned a pair of rainbow suspenders like the ones Mork used to we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067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10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33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19560"/>
            <a:ext cx="8229600" cy="3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SOURCE: The College Board, </a:t>
            </a:r>
            <a:r>
              <a:rPr b="0" i="1" lang="en-US" sz="800" spc="-1" strike="noStrike">
                <a:solidFill>
                  <a:srgbClr val="ffffff"/>
                </a:solidFill>
                <a:latin typeface="Garamond"/>
              </a:rPr>
              <a:t>Trends in College Pricing 2010,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Table 1A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7" descr="Shadow 5.jpg"/>
          <p:cNvPicPr/>
          <p:nvPr/>
        </p:nvPicPr>
        <p:blipFill>
          <a:blip r:embed="rId1"/>
          <a:stretch/>
        </p:blipFill>
        <p:spPr>
          <a:xfrm>
            <a:off x="152280" y="1111320"/>
            <a:ext cx="8839440" cy="420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P 2010 Table 1A.png"/>
          <p:cNvPicPr/>
          <p:nvPr/>
        </p:nvPicPr>
        <p:blipFill>
          <a:blip r:embed="rId2"/>
          <a:stretch/>
        </p:blipFill>
        <p:spPr>
          <a:xfrm>
            <a:off x="380880" y="1752480"/>
            <a:ext cx="83822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earch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process is all about discovering who you 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the best “fi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eful websi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actstudent.org (ACT exa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collegeboard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AT exa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collegeconfidential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college searc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fastweb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cholarshi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fafsa.ed.gov (financial a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CIS: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www.smartaboutcollege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tinel High School Library webpage, www.mcps.k12.mt.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 Ph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lege and Career Counse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ay – Friday, 8:45-12:4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28-2400 ext. 70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dpham@mcps.k12.mt.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ebook:  www.facebook.com/shscollegecare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l thought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ucation is the most powerful weapon which you can use to change the world.”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lson Mandel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pick up some literature on your way 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 you for your attention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let us know how we can help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does graduation mat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http://www.bls.gov/emp/ep_chart_001.JPG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Shadow 5.jpg"/>
          <p:cNvPicPr/>
          <p:nvPr/>
        </p:nvPicPr>
        <p:blipFill>
          <a:blip r:embed="rId1"/>
          <a:stretch/>
        </p:blipFill>
        <p:spPr>
          <a:xfrm>
            <a:off x="1257480" y="676440"/>
            <a:ext cx="6743520" cy="6029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Serifa Std 45 Light"/>
              </a:rPr>
              <a:t>Median Family Income by Selected Characteristics, 2009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651024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SOURCE: The College Board, </a:t>
            </a:r>
            <a:r>
              <a:rPr b="0" i="1" lang="en-US" sz="800" spc="-1" strike="noStrike">
                <a:solidFill>
                  <a:srgbClr val="ffffff"/>
                </a:solidFill>
                <a:latin typeface="Garamond"/>
              </a:rPr>
              <a:t>Trends in College Pricing 2010,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Figure 16B.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CP 2010 Figure 04.png"/>
          <p:cNvPicPr/>
          <p:nvPr/>
        </p:nvPicPr>
        <p:blipFill>
          <a:blip r:embed="rId2"/>
          <a:stretch/>
        </p:blipFill>
        <p:spPr>
          <a:xfrm>
            <a:off x="1600200" y="838080"/>
            <a:ext cx="6031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earch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process is all about discovering who you 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the best “fi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President Dennison (8/27/09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 H.S. Freshman --&gt;10 years later-only 18 have a degree (approximately 18% = 52 SHS stu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ctors to consid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-year or 4-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or Priv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 of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ndardized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or the other, not bo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highest score will be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 (Good Stu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penalty for wrong answ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iculum based (all encompassing final exa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ience s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T (Good Test-take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¼ point penalty for every wrong ans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SAT tests your ability to take the SAT test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ies to determine “innate ability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holar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ost money available is at the college or university of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g well-rounded mat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don’t have to be the top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adlines are our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be a good return on your time invest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ncial A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FSA form:  Free Application for Federal Student A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y after January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doesn’t hurt to app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gate the process, programs, and particul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F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A – EFC = N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26:48Z</dcterms:created>
  <dc:creator>MCPS User</dc:creator>
  <dc:description/>
  <dc:language>en-US</dc:language>
  <cp:lastModifiedBy>tri pham</cp:lastModifiedBy>
  <dcterms:modified xsi:type="dcterms:W3CDTF">2010-11-09T21:51:01Z</dcterms:modified>
  <cp:revision>13</cp:revision>
  <dc:subject/>
  <dc:title>Slide 1</dc:title>
</cp:coreProperties>
</file>